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5CED-1F25-485A-AE57-E5EB1A1F3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link check here for a reliable site.  Have your students examine and evaluate the URLs of the sites that linked to the site in ques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lling and grammatical errors are important clues that a site ought to be avoided as a source.  Be on the lookout for information that just doesn’t “feel right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is not a contest. It doesn’t matter how many sources you collect. What does matter is their quality and their relevance! Your teacher will be more impressed with five high-quality, highly relevant sites, than thirty irrelevant on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give examples of when it would be more or less important to have your site be current?  Is it important that an author keep a site maintai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very suspicious of information that appears out of nowhere.  Unless this is a completely original source some documentation ought to be present for you to take the page seri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various reasons people choose to publish on the We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Web publishing different from traditional print--book, magazine, newspaper--publishing?  Who filtered (or selected) those resources for qual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discover an author has a Ph.D.  Do you need to investigate any further? What if her degree is in physics and the website she wrote is on Shakespea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everything on Geocities bad?  Would your teacher question you citing a source that resided on a free server?  Who might have a site with a ~ at a univers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es often appear on the top or bottom of a page, or in menu bars and frames.  These sections often contain authorship clu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FDE0-011F-4721-9886-0431CFC2C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315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90720" y="4014360"/>
            <a:ext cx="7315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26AE-70F3-408F-9274-9F919F85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3940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90720" y="401436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39400" y="401436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3F44-F780-4CA8-AFE2-D17E25CB3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63920" y="190512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37120" y="190512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90720" y="401436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63920" y="401436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37120" y="401436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3AFB-833A-4710-9672-A9C760AD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4CCA-3CA1-4117-9867-436DBAEF2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F950-9DD0-44CB-A893-856DD9B9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C302-6488-4789-94A8-D02ED801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356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400" y="1905120"/>
            <a:ext cx="356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E282-A654-42B8-AB6F-1093AB3D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A975-281C-499D-BE8B-4EB715EC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0360" y="456840"/>
            <a:ext cx="6933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A753-4F6E-4A4A-BFB6-918CBA20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9400" y="1905120"/>
            <a:ext cx="356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01436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80BA-38F3-4B2E-BD77-F30C5185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FD9E-3D26-492E-AFFA-65927D5A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356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940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9400" y="401436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BD80-3E76-457D-AC8E-D89D35C3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940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720" y="4014360"/>
            <a:ext cx="7315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C73C-23A6-4A17-8670-501B69EE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315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90720" y="4014360"/>
            <a:ext cx="7315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143A-C22D-418F-B878-B0A04128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940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90720" y="401436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9400" y="401436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986A-55BF-415A-9A13-B74DF05A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63920" y="190512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37120" y="190512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90720" y="401436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63920" y="401436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37120" y="401436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1D2C-F2E0-45A1-BCEF-C46B38110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3585-C408-4E4E-943E-0697E6B0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356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9400" y="1905120"/>
            <a:ext cx="356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4812-892B-4B55-939F-45B5735A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2820-4420-49D8-9564-D8614024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90360" y="456840"/>
            <a:ext cx="6933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929F-9DCB-43C4-BF25-92C86FF8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9400" y="1905120"/>
            <a:ext cx="356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401436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7C26-71D8-46B0-B781-134B4EC8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356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40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39400" y="401436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DFDA-AD56-44EB-A707-5C8B9ABE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40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720" y="4014360"/>
            <a:ext cx="7315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9620-A554-479F-A602-32BF1024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 rot="16200000">
            <a:off x="4304520" y="6513480"/>
            <a:ext cx="610200" cy="685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1203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12031"/>
              </a:path>
            </a:pathLst>
          </a:cu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52280"/>
            <a:ext cx="9144000" cy="6629400"/>
            <a:chOff x="0" y="152280"/>
            <a:chExt cx="9144000" cy="6629400"/>
          </a:xfrm>
        </p:grpSpPr>
        <p:sp>
          <p:nvSpPr>
            <p:cNvPr id="2" name=""/>
            <p:cNvSpPr/>
            <p:nvPr/>
          </p:nvSpPr>
          <p:spPr>
            <a:xfrm flipH="1">
              <a:off x="5029200" y="152280"/>
              <a:ext cx="4114800" cy="6629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305" y="540"/>
                    <a:pt x="3009" y="5080"/>
                    <a:pt x="3009" y="10800"/>
                  </a:cubicBezTo>
                  <a:cubicBezTo>
                    <a:pt x="3009" y="16520"/>
                    <a:pt x="12305" y="2106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52280"/>
              <a:ext cx="4114800" cy="6629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305" y="540"/>
                    <a:pt x="3009" y="5080"/>
                    <a:pt x="3009" y="10800"/>
                  </a:cubicBezTo>
                  <a:cubicBezTo>
                    <a:pt x="3009" y="16520"/>
                    <a:pt x="12305" y="2106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228600" y="76320"/>
            <a:ext cx="8763120" cy="1523880"/>
            <a:chOff x="228600" y="76320"/>
            <a:chExt cx="8763120" cy="1523880"/>
          </a:xfrm>
        </p:grpSpPr>
        <p:sp>
          <p:nvSpPr>
            <p:cNvPr id="5" name=""/>
            <p:cNvSpPr/>
            <p:nvPr/>
          </p:nvSpPr>
          <p:spPr>
            <a:xfrm>
              <a:off x="228600" y="76320"/>
              <a:ext cx="3962520" cy="152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497" y="250"/>
                    <a:pt x="1393" y="5080"/>
                    <a:pt x="1393" y="10800"/>
                  </a:cubicBezTo>
                  <a:cubicBezTo>
                    <a:pt x="1393" y="16520"/>
                    <a:pt x="11497" y="2135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4724280" y="76320"/>
              <a:ext cx="4267440" cy="152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497" y="250"/>
                    <a:pt x="1393" y="5080"/>
                    <a:pt x="1393" y="10800"/>
                  </a:cubicBezTo>
                  <a:cubicBezTo>
                    <a:pt x="1393" y="16520"/>
                    <a:pt x="11497" y="2135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80" y="152280"/>
              <a:ext cx="7925040" cy="137160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99072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ccff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99ccff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99ccff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2362320" y="640080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79D3-B1AE-48BD-9EE4-47303C38EC70}" type="slidenum"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76320"/>
            <a:ext cx="9144000" cy="6705360"/>
            <a:chOff x="0" y="76320"/>
            <a:chExt cx="9144000" cy="6705360"/>
          </a:xfrm>
        </p:grpSpPr>
        <p:sp>
          <p:nvSpPr>
            <p:cNvPr id="50" name=""/>
            <p:cNvSpPr/>
            <p:nvPr/>
          </p:nvSpPr>
          <p:spPr>
            <a:xfrm flipH="1">
              <a:off x="5029200" y="152280"/>
              <a:ext cx="4114800" cy="6629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305" y="540"/>
                    <a:pt x="3009" y="5080"/>
                    <a:pt x="3009" y="10800"/>
                  </a:cubicBezTo>
                  <a:cubicBezTo>
                    <a:pt x="3009" y="16520"/>
                    <a:pt x="12305" y="2106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76320"/>
              <a:ext cx="4114800" cy="670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305" y="540"/>
                    <a:pt x="3009" y="5080"/>
                    <a:pt x="3009" y="10800"/>
                  </a:cubicBezTo>
                  <a:cubicBezTo>
                    <a:pt x="3009" y="16520"/>
                    <a:pt x="12305" y="2106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28600" y="2590920"/>
            <a:ext cx="8763120" cy="1523880"/>
            <a:chOff x="228600" y="2590920"/>
            <a:chExt cx="8763120" cy="1523880"/>
          </a:xfrm>
        </p:grpSpPr>
        <p:sp>
          <p:nvSpPr>
            <p:cNvPr id="53" name=""/>
            <p:cNvSpPr/>
            <p:nvPr/>
          </p:nvSpPr>
          <p:spPr>
            <a:xfrm>
              <a:off x="228600" y="2590920"/>
              <a:ext cx="3962520" cy="152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497" y="250"/>
                    <a:pt x="1393" y="5080"/>
                    <a:pt x="1393" y="10800"/>
                  </a:cubicBezTo>
                  <a:cubicBezTo>
                    <a:pt x="1393" y="16520"/>
                    <a:pt x="11497" y="2135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4724280" y="2590920"/>
              <a:ext cx="4267440" cy="152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497" y="250"/>
                    <a:pt x="1393" y="5080"/>
                    <a:pt x="1393" y="10800"/>
                  </a:cubicBezTo>
                  <a:cubicBezTo>
                    <a:pt x="1393" y="16520"/>
                    <a:pt x="11497" y="2135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2666880"/>
              <a:ext cx="7925040" cy="137160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251424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8A15-A97C-43CC-86FF-900F8953500C}" type="slidenum"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ccff"/>
              </a:buClr>
              <a:buFont typeface="Times New Roman"/>
              <a:buChar char="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d4d4d"/>
              </a:buClr>
              <a:buFont typeface="Times New Roman"/>
              <a:buChar char="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Font typeface="Times New Roman"/>
              <a:buChar char="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oogle.com/" TargetMode="External"/><Relationship Id="rId2" Type="http://schemas.openxmlformats.org/officeDocument/2006/relationships/hyperlink" Target="http://altavista.com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cc"/>
                </a:solidFill>
                <a:latin typeface="Arial"/>
              </a:rPr>
              <a:t>Hey there! </a:t>
            </a:r>
            <a:br>
              <a:rPr sz="6000"/>
            </a:br>
            <a:r>
              <a:rPr b="0" lang="en-US" sz="6000" spc="-1" strike="noStrike">
                <a:solidFill>
                  <a:srgbClr val="6600cc"/>
                </a:solidFill>
                <a:latin typeface="Arial"/>
              </a:rPr>
              <a:t>Have you evaluated?</a:t>
            </a:r>
            <a:endParaRPr b="0" lang="en-US" sz="60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4400" y="48769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s that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it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od enough to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it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743200" y="2209680"/>
            <a:ext cx="31813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More credibility clues</a:t>
            </a:r>
            <a:br>
              <a:rPr sz="4400"/>
            </a:br>
            <a:r>
              <a:rPr b="0" lang="en-US" sz="3600" spc="-1" strike="noStrike">
                <a:solidFill>
                  <a:srgbClr val="6600cc"/>
                </a:solidFill>
                <a:latin typeface="Arial"/>
              </a:rPr>
              <a:t>(What do others think?)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ink check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 u="sng">
                <a:solidFill>
                  <a:srgbClr val="669900"/>
                </a:solidFill>
                <a:uFillTx/>
                <a:latin typeface="Arial"/>
                <a:hlinkClick r:id="rId1"/>
              </a:rPr>
              <a:t>Goo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 u="sng">
                <a:solidFill>
                  <a:srgbClr val="669900"/>
                </a:solidFill>
                <a:uFillTx/>
                <a:latin typeface="Arial"/>
                <a:hlinkClick r:id="rId2"/>
              </a:rPr>
              <a:t>AltaVis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yp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:siteaddres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results will show which other sites have chosen to link to this page. If several respectable institutions have linked to a site, that provides a clue about the site’s credibility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site appear in major subject directories like Librarian’s Index to the Internet (lii.org)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Truncate the URL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 characters in the address line up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xt slash mark to see if a main page offers more information about who is responsible for publishing the page you are interested in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00200" y="3822840"/>
            <a:ext cx="7238880" cy="22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from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statecollege.edu/history/middleages/chaucer/smith.ht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statecollege.edu/history/middleages/chaucer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statecollege.edu/history/middleage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statecollege.edu/histor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statecollege.edu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8" dur="1" fill="hold"/>
                                  <p:tgtEl>
                                    <p:spTgt spid="12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Still more credibility clue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an author’s name but no further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bout credentials,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901"/>
              </a:spcAft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 the name in quotation marks in a search engine or online database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901"/>
              </a:spcAft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Web, include words lik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f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su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.V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urriculum vitae</a:t>
            </a:r>
            <a:r>
              <a:rPr b="0" lang="en-US" sz="1800" spc="-1" strike="noStrike">
                <a:solidFill>
                  <a:srgbClr val="4d4d4d"/>
                </a:solidFill>
                <a:latin typeface="Times New Roman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cademic resume) to narrow you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search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901"/>
              </a:spcAft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ight also include the name of a college or association you can connect with the perso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901"/>
              </a:spcAft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 the name in biographical sources on- and offline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901"/>
              </a:spcAft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your teacher-librarian for help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87534"/>
                </a:solidFill>
                <a:latin typeface="Wide Lati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CURACY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facts, statistics, or other information b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ed through other sources?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your knowledge, does the information seem accurate? Is the information inconsistent with information you learned from other sources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information second hand? Has it been altered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re appear to be errors on the pa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pelling, grammar, facts)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f1f1d"/>
                </a:solidFill>
                <a:latin typeface="Wide Lati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ABILITY</a:t>
            </a:r>
            <a:endParaRPr b="0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source present a particular view or bias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page affiliated with an organization that has a particular political or social agenda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page selling a product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find other material to offer balance so that you can see the bigger picture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the information found in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id plac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ponsored res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the search engine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is seldom neutral. Sometimes a bias is useful for persuasive essays or debates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cognizing bias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important.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7518"/>
                </a:solidFill>
                <a:latin typeface="Wide Lati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VANCE</a:t>
            </a:r>
            <a:endParaRPr b="0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901"/>
              </a:spcAft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is information directly suppor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hypothesis/thesis or help to answer my question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eliminate or ignore it because it simply doesn’t help me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184b81"/>
                </a:solidFill>
                <a:latin typeface="Wide Lati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E</a:t>
            </a:r>
            <a:endParaRPr b="0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as this information created? 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as it last revised? 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se dates meaningful in term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your information needs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the author of the page stopped maintaining it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e suspicious of undated material.)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c54ad"/>
                </a:solidFill>
                <a:latin typeface="Wide Lati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CES BEHIND THE TEXT</a:t>
            </a:r>
            <a:endParaRPr b="0" lang="en-US" sz="2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d the author bother to document his or her sources? 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e those references reliable, popular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olarly, reputable?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those sources real? Have you or your librarian heard of or been able to verify them?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the material reproduced (accurately) from another publication?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kind of links did the author choose?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the hyperlinks reliable and valuable?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c18b0"/>
                </a:solidFill>
                <a:latin typeface="Wide Lati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E / PURPOSE</a:t>
            </a:r>
            <a:endParaRPr b="0" lang="en-US" sz="2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is source address my hypothesis/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is/question in a comprehensive 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pheral way?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t a scholarly or popular treatment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t material I can read and understand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t too simple? Is it too challenging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the intended audience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as this page created? To infor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xplain? To persuade? To sell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What can you </a:t>
            </a:r>
            <a:br>
              <a:rPr sz="4400"/>
            </a:b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learn from a URL?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the end, or suffix of a domain name to help you judge the validity of the information and the potential bias of a website. 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trategy is only a guideline. People can easily purcha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ains that do not reflect their actual purpose.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133720" y="3048120"/>
            <a:ext cx="2925720" cy="2971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733920" y="457200"/>
            <a:ext cx="4876560" cy="2590920"/>
          </a:xfrm>
          <a:prstGeom prst="wedgeRoundRectCallout">
            <a:avLst>
              <a:gd name="adj1" fmla="val -32712"/>
              <a:gd name="adj2" fmla="val 59435"/>
              <a:gd name="adj3" fmla="val 16667"/>
            </a:avLst>
          </a:prstGeom>
          <a:solidFill>
            <a:srgbClr val="66ff3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mmm.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s one looks good.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I tell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r sure?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URLs as clues to conten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37920" y="144792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com=commercial sites (vary in their credibility)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gov=U.S. government site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org=organization, often non-profit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have strong bias and agendas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edu=school or university site (is it K–12?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a student? By a scholar?)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store=retail business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int=international institution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ac=educational institution (like .edu)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mil=U.S. military site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net=networked service provider, Interne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ministrative site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museum=museum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name=individual Internet user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biz=a business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pro=professional’s site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=personal site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Remember, the </a:t>
            </a:r>
            <a:r>
              <a:rPr b="0" i="1" lang="en-US" sz="4400" spc="-1" strike="noStrike">
                <a:solidFill>
                  <a:srgbClr val="6600cc"/>
                </a:solidFill>
                <a:latin typeface="Arial"/>
              </a:rPr>
              <a:t>free</a:t>
            </a: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 Web is not your only choice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52120" y="2209320"/>
            <a:ext cx="6629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use print sources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search subscription databases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check with your teacher-librarian for advice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6933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So, why should we care about all of this?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42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are bigger questions in life!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will be using information to make important decisions!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25905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car should I buy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doctor should I choose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my child have this surgery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I take this medication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ant to be able to ensur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you choose is reliable, credible, current, balanced, relevant, and accurate!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Just as you evaluate </a:t>
            </a:r>
            <a:br>
              <a:rPr sz="4400"/>
            </a:b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your sources . . .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teacher will evaluate your work based on the quality of the sources you select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carefully. Don’t settle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ood enoug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lity always counts!</a:t>
            </a:r>
            <a:endParaRPr b="0" lang="en-US" sz="4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It’s okay to be confused</a:t>
            </a: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!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901"/>
              </a:spcAft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billions of websites out there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901"/>
              </a:spcAft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f them are not worthy of your time and don’t belong in your bibliographies!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901"/>
              </a:spcAft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it’s very hard to tell treasure from trash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Web developers don’t want you to understand the difference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8951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ember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yone can publish anyth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the Web!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is your job, as a researcher, to look for quality!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029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14600" y="3657600"/>
            <a:ext cx="5410080" cy="3200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09480" y="1676520"/>
            <a:ext cx="3200400" cy="1904760"/>
          </a:xfrm>
          <a:prstGeom prst="wedgeEllipseCallout">
            <a:avLst>
              <a:gd name="adj1" fmla="val 49601"/>
              <a:gd name="adj2" fmla="val 85333"/>
            </a:avLst>
          </a:prstGeom>
          <a:solidFill>
            <a:srgbClr val="66ff3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ay, so how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we know if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te is good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0"/>
            <a:ext cx="5486400" cy="2743200"/>
          </a:xfrm>
          <a:prstGeom prst="wedgeEllipseCallout">
            <a:avLst>
              <a:gd name="adj1" fmla="val 12268"/>
              <a:gd name="adj2" fmla="val 85763"/>
            </a:avLst>
          </a:prstGeom>
          <a:solidFill>
            <a:srgbClr val="66ff3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ah, and how can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be su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ur teac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good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ough to cite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6933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Think of CARRDS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09680" y="13712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18b0"/>
                </a:solidFill>
                <a:latin typeface="Wide Lati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IBILITY / AUTHORITY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87534"/>
                </a:solidFill>
                <a:latin typeface="Wide Lati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URACY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1f1d"/>
                </a:solidFill>
                <a:latin typeface="Wide Lati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ABILITY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518"/>
                </a:solidFill>
                <a:latin typeface="Wide Lati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VANC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84b81"/>
                </a:solidFill>
                <a:latin typeface="Wide Lati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54ad"/>
                </a:solidFill>
                <a:latin typeface="Wide Lati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CES BEHIND THE TEXT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c18b0"/>
                </a:solidFill>
                <a:latin typeface="Wide Lati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E AND PURPOS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c18b0"/>
                </a:solidFill>
                <a:latin typeface="Wide Latin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IBILITY / AUTHORITY</a:t>
            </a: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933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is the author? 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his or her credentials? Education? Experience? Affiliation?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the author’s experience really qualify him or her as an expert?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he or she offer first-hand credibility? (For instance, a Vietnam veteran or a witness to Woodstock?)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actually published this page?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is a personal page or is it an endorsed part of a site belonging to a major institution? (Clues pointing to a personal page: ~ tilde, %, users, members)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page hosted by a free server like AOL Members, Tripod, Geocities?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81480" y="3809880"/>
            <a:ext cx="2659320" cy="2710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38080" y="914400"/>
            <a:ext cx="5181840" cy="3124080"/>
          </a:xfrm>
          <a:prstGeom prst="wedgeEllipseCallout">
            <a:avLst>
              <a:gd name="adj1" fmla="val 46995"/>
              <a:gd name="adj2" fmla="val 83435"/>
            </a:avLst>
          </a:prstGeom>
          <a:solidFill>
            <a:srgbClr val="66ff3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ut what if I can’t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nd any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uthor information?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Look for credibility clues!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828800"/>
            <a:ext cx="6172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s and phrases to look for: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out us, Who Am I, FAQs, For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re, Company Information, Profiles,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ur Staff, Hom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 the author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have no information other th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-mail link, write a polite e-mai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ing for more information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9:03:09Z</dcterms:created>
  <dc:creator>Technology Services</dc:creator>
  <dc:description/>
  <dc:language>en-US</dc:language>
  <cp:lastModifiedBy>Technology Services</cp:lastModifiedBy>
  <dcterms:modified xsi:type="dcterms:W3CDTF">2008-01-03T19:05:37Z</dcterms:modified>
  <cp:revision>1</cp:revision>
  <dc:subject/>
  <dc:title>Hey there!  Have you evaluated?</dc:title>
</cp:coreProperties>
</file>